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E97-FF26-4643-85EF-5131EC74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F80-FB02-43BA-9AC8-489E9FB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C0C-00E7-4EE8-A395-C7A0CB70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7D1-A642-4F2A-B4B1-361416AB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8B0-C861-43BE-BA1B-CBB6ACA2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D56-4E5B-49B5-8760-F5B505E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F6D-48B3-43DE-A44A-5451F0AB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B12-4E1C-4B5D-ABD6-6141039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CC4-6121-43E0-A5EA-1D56FAB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C3E-F7EF-47AB-A7EC-CB721D8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761-DB39-46E2-94FF-78C2293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FA9-DC00-4C88-AE28-AEF4E07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A30-1ECB-48AD-9737-4F5851A27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lo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12408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gging is a great way for your students to write with an authentic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also a great way for you to communicate with parents &amp;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6320" y="190512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76520" y="274320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Blo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4280" y="434196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.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the name for the entire blog, not just this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4114800"/>
            <a:ext cx="6858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343400"/>
            <a:ext cx="60984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blog from your page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495288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724280"/>
            <a:ext cx="144756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ost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3124080"/>
            <a:ext cx="14479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ost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41148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410080"/>
            <a:ext cx="83808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“Posting” tab, then type your blog post in the text bo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991720" cy="47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3809880"/>
            <a:ext cx="1600200" cy="7621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609480" cy="6098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638680"/>
            <a:ext cx="76176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“Comments” tab, click “Save” and “Activ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24080" y="3505320"/>
            <a:ext cx="83844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403848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487692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880" y="4419720"/>
            <a:ext cx="14479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2:27:44Z</dcterms:created>
  <dc:creator>%$#@1</dc:creator>
  <dc:description/>
  <dc:language>en-US</dc:language>
  <cp:lastModifiedBy>%$#@1</cp:lastModifiedBy>
  <dcterms:modified xsi:type="dcterms:W3CDTF">2010-04-27T02:27:47Z</dcterms:modified>
  <cp:revision>1</cp:revision>
  <dc:subject/>
  <dc:title>Blogs</dc:title>
</cp:coreProperties>
</file>